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73A4-7C5D-4A38-B880-82EAB0572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93ED-B416-4789-BE69-357B324A1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973A-0D5F-46D7-AD03-4FB95A09A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F354-0807-4976-8E9C-5B3D46B31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A3B1B-5113-4590-8D81-15DD810D5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D306D-59A6-4910-B2E6-2D5F19CCC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87A3A-E114-4226-A4A0-B005B3977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CFF51-F4C8-49E1-A300-022464813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812C8-50CF-4736-9BA0-097148270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07624-63ED-4FD1-A4E2-8ADFF6D92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6F92F-2006-4FA3-AA3E-7135619C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4635-5EF2-4115-9E65-98C39163A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65081-241F-435C-B5D7-46B302DA6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00A05-A7C8-4508-A31A-932A31BA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DC1EA-4DA5-4D6F-BF61-C3C5581E4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A8C4D-A149-4FCC-B34A-6B78CA667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62187-9F97-4C73-BE98-36F8CBFCA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E628-EEDD-4B54-929A-F9E543286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F2B4-38D5-4C2D-8DBE-8F9556BFD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F265-3424-432B-A764-306C59F01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55C6-7F96-454B-A7EB-A22F34208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18A9-6E8D-4C61-A8FE-4554EF9F9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7BA2-D925-41E7-9E53-1538BDC43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449A-8BA8-4809-90C9-9EC087012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71F40-524E-4754-97CB-4E5E1D7EA7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639C6-F59E-4DAC-A02B-999E9616A7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60bb1"/>
                </a:solidFill>
                <a:latin typeface="Arial Black"/>
              </a:rPr>
              <a:t>Nothing but ne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bb1"/>
                </a:solidFill>
                <a:latin typeface="Arial"/>
              </a:rPr>
              <a:t>By; Tarra Eid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60bb1"/>
                </a:solidFill>
                <a:latin typeface="Arial Black"/>
              </a:rPr>
              <a:t>Problem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es the angle of you arm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when shooting) have an effect on the way the ball goes i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60bb1"/>
                </a:solidFill>
                <a:latin typeface="Arial Black"/>
              </a:rPr>
              <a:t>Intro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eason I wanted to test over the angle is because sometime I shoot and my arm is down and not up and fallowed  through like it should be.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60bb1"/>
                </a:solidFill>
                <a:latin typeface="Arial Black"/>
              </a:rPr>
              <a:t>hypothesi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do think that the angle of your arm does matt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aterial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ketb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ketball court, hoop and back bo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lunteer players to shoot bask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ocedur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am going to pick a location (new gy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I am going to get my shoo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I am going to video tape them while they shoo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I am going to start my testing I will get my 4 people and let them shoot 5 practice shots and then they will shoot 10 really shots. ONLY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sul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ll I tested my people and I thought that I did ok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nclusion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ll my testing is done and I was some what right. Your arm does have an effect on they way you shoot. and then again it doesn’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ssible Cause of Error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9T15:41:33Z</dcterms:created>
  <dc:creator>student</dc:creator>
  <dc:description/>
  <dc:language>en-US</dc:language>
  <cp:lastModifiedBy>USD376</cp:lastModifiedBy>
  <dcterms:modified xsi:type="dcterms:W3CDTF">2012-03-08T21:10:44Z</dcterms:modified>
  <cp:revision>3</cp:revision>
  <dc:subject/>
  <dc:title>Nothing but net</dc:title>
</cp:coreProperties>
</file>